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A50-747E-4945-A195-0F88EADA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46E-2C8D-48A1-A593-518E0FCB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8A9-804A-4933-A715-6D113272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6B6-64C4-459F-A065-67BAFBC1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229D-764D-40D7-BEA8-E96C8EDC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D23B-DFF7-4F72-A7F6-C0B11FA7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2B82-4CDD-4062-A9AC-3BD6764E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2507-6C5D-4982-8FD3-CB74D1BA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7BD4-CDC2-4D84-94D5-CDB60397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3DF1-4B79-4455-A9EF-42843C4C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C80F-7BEE-4F49-80F4-4ADD23A7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633-798F-44E2-A540-F002957F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C59C-473D-483A-90AA-82601BD9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F60F-9719-4689-9ED8-38176178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2208-C26C-4DA7-AE50-B665D50F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6383-A3FC-4945-BB4D-12109E2F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F959-85E0-4A4D-9646-E98AB19B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447-898C-4F89-B133-22AE8DBD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2E0-7C5D-42D6-88D1-7B8792CA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6A1-537F-40A9-B8B5-EDEC3E51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3D7-4B07-45FB-9640-749BEB19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5AF-DBC4-4A7F-8AD1-5DCD26B9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CD1-7915-4539-B48E-E6ACFACF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10B-A8C6-405D-9936-20BEEE22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134D-86B8-472D-9115-73C71EE376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94E0-3EAA-490B-A8D6-3F200E3F17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Me llamo _______      Clase 8IM</a:t>
            </a:r>
            <a:br>
              <a:rPr sz="3500"/>
            </a:b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La fecha es el 9 de octubre del 2012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0066"/>
                </a:solidFill>
                <a:latin typeface="Arial"/>
              </a:rPr>
              <a:t>Propósito # 8: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¿fuiste a nadar el verano pasa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0066"/>
                </a:solidFill>
                <a:latin typeface="Arial"/>
              </a:rPr>
              <a:t>Actividad Inicial: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pia y responde usando el P.O.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1. Ayer, ¿compraste el anora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¿Bajaste la pista sin problem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¿Invitaste a tu amigo a esquia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4. ¿Compraste los bole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5. ¿Ayudaste a tu amig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6. ¿Disfrutaste el paseo con tus amig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3048120"/>
            <a:ext cx="586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Si, (No,) </a:t>
            </a:r>
            <a:r>
              <a:rPr b="1" i="1" lang="es-ES_tradnl" sz="2400" spc="-1" strike="noStrike" u="sng">
                <a:solidFill>
                  <a:srgbClr val="008000"/>
                </a:solidFill>
                <a:uFillTx/>
                <a:latin typeface="Times New Roman"/>
              </a:rPr>
              <a:t>lo</a:t>
            </a: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 compr</a:t>
            </a: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é, 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3657600"/>
            <a:ext cx="743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Si, (No,) </a:t>
            </a:r>
            <a:r>
              <a:rPr b="1" i="1" lang="es-ES_tradnl" sz="2400" spc="-1" strike="noStrike" u="sng">
                <a:solidFill>
                  <a:srgbClr val="008000"/>
                </a:solidFill>
                <a:uFillTx/>
                <a:latin typeface="Times New Roman"/>
              </a:rPr>
              <a:t>la</a:t>
            </a: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 baj</a:t>
            </a: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é sin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4191120"/>
            <a:ext cx="601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Si, (No,) </a:t>
            </a:r>
            <a:r>
              <a:rPr b="1" i="1" lang="es-ES_tradnl" sz="2400" spc="-1" strike="noStrike" u="sng">
                <a:solidFill>
                  <a:srgbClr val="008000"/>
                </a:solidFill>
                <a:uFillTx/>
                <a:latin typeface="Times New Roman"/>
              </a:rPr>
              <a:t>lo</a:t>
            </a: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 invit</a:t>
            </a: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é a esqu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4724280"/>
            <a:ext cx="4496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Si, (No,) </a:t>
            </a:r>
            <a:r>
              <a:rPr b="1" i="1" lang="es-ES_tradnl" sz="2400" spc="-1" strike="noStrike" u="sng">
                <a:solidFill>
                  <a:srgbClr val="008000"/>
                </a:solidFill>
                <a:uFillTx/>
                <a:latin typeface="Times New Roman"/>
              </a:rPr>
              <a:t>los</a:t>
            </a: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 compr</a:t>
            </a: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525780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Si, (No,) </a:t>
            </a:r>
            <a:r>
              <a:rPr b="1" i="1" lang="es-ES_tradnl" sz="2400" spc="-1" strike="noStrike" u="sng">
                <a:solidFill>
                  <a:srgbClr val="008000"/>
                </a:solidFill>
                <a:uFillTx/>
                <a:latin typeface="Times New Roman"/>
              </a:rPr>
              <a:t>lo</a:t>
            </a: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 ayud</a:t>
            </a: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5867280"/>
            <a:ext cx="7010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Si, (No,) </a:t>
            </a:r>
            <a:r>
              <a:rPr b="1" i="1" lang="es-ES_tradnl" sz="2400" spc="-1" strike="noStrike" u="sng">
                <a:solidFill>
                  <a:srgbClr val="008000"/>
                </a:solidFill>
                <a:uFillTx/>
                <a:latin typeface="Times New Roman"/>
              </a:rPr>
              <a:t>lo</a:t>
            </a: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 disfrut</a:t>
            </a: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é con mis ami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IR y SER en el PRETERI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TextBox 40"/>
          <p:cNvSpPr/>
          <p:nvPr/>
        </p:nvSpPr>
        <p:spPr>
          <a:xfrm>
            <a:off x="228600" y="236232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verbs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(to go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S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(to be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rregular in the preterit. They share the same forms. The context of a sentence will let you know which is being us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Arial"/>
              </a:rPr>
              <a:t>IR </a:t>
            </a:r>
            <a:r>
              <a:rPr b="1" i="1" lang="en-US" sz="3900" spc="-1" strike="noStrike">
                <a:solidFill>
                  <a:srgbClr val="0000ff"/>
                </a:solidFill>
                <a:latin typeface="Arial"/>
              </a:rPr>
              <a:t>(to go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Content Placeholder 11"/>
          <p:cNvSpPr/>
          <p:nvPr/>
        </p:nvSpPr>
        <p:spPr>
          <a:xfrm>
            <a:off x="380880" y="15238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 fontScale="98000"/>
          </a:bodyPr>
          <a:p>
            <a:pPr marL="259560" indent="-2595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 u="sng">
                <a:solidFill>
                  <a:srgbClr val="000000"/>
                </a:solidFill>
                <a:uFillTx/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El verano pasado, </a:t>
            </a: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yo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0000ff"/>
                </a:solidFill>
                <a:uFillTx/>
                <a:latin typeface="Arial"/>
              </a:rPr>
              <a:t>fui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a una estación de esquí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Tú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0000ff"/>
                </a:solidFill>
                <a:uFillTx/>
                <a:latin typeface="Arial"/>
              </a:rPr>
              <a:t>fuiste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con tus prim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Ella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0000ff"/>
                </a:solidFill>
                <a:uFillTx/>
                <a:latin typeface="Arial"/>
              </a:rPr>
              <a:t>fue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a comprar los boletos en la ventanill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Nosotros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0000ff"/>
                </a:solidFill>
                <a:uFillTx/>
                <a:latin typeface="Arial"/>
              </a:rPr>
              <a:t>fuimos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a esquiar a la pi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Ellos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0000ff"/>
                </a:solidFill>
                <a:uFillTx/>
                <a:latin typeface="Arial"/>
              </a:rPr>
              <a:t>fueron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a buscar los bat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ff"/>
                </a:solidFill>
                <a:latin typeface="Arial"/>
              </a:rPr>
              <a:t>SER </a:t>
            </a:r>
            <a:r>
              <a:rPr b="1" i="1" lang="en-US" sz="3900" spc="-1" strike="noStrike">
                <a:solidFill>
                  <a:srgbClr val="cc00ff"/>
                </a:solidFill>
                <a:latin typeface="Arial"/>
              </a:rPr>
              <a:t>(to b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Content Placeholder 11"/>
          <p:cNvSpPr/>
          <p:nvPr/>
        </p:nvSpPr>
        <p:spPr>
          <a:xfrm>
            <a:off x="228600" y="1828800"/>
            <a:ext cx="8534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 u="sng">
                <a:solidFill>
                  <a:srgbClr val="000000"/>
                </a:solidFill>
                <a:uFillTx/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El verano pasado, </a:t>
            </a: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yo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cc00ff"/>
                </a:solidFill>
                <a:uFillTx/>
                <a:latin typeface="Arial"/>
              </a:rPr>
              <a:t>fui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el que más jugó al ten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Tú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cc00ff"/>
                </a:solidFill>
                <a:uFillTx/>
                <a:latin typeface="Arial"/>
              </a:rPr>
              <a:t>fuiste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el que perdió el partido de ten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Ella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cc00ff"/>
                </a:solidFill>
                <a:uFillTx/>
                <a:latin typeface="Arial"/>
              </a:rPr>
              <a:t>fue</a:t>
            </a:r>
            <a:r>
              <a:rPr b="0" lang="es-DO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la que ganó el partido de ten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Nosotros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cc00ff"/>
                </a:solidFill>
                <a:uFillTx/>
                <a:latin typeface="Arial"/>
              </a:rPr>
              <a:t>fuimos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los que mejor esquiam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Ellos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cc00ff"/>
                </a:solidFill>
                <a:uFillTx/>
                <a:latin typeface="Arial"/>
              </a:rPr>
              <a:t>fueron</a:t>
            </a:r>
            <a:r>
              <a:rPr b="0" lang="es-DO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los que peor esquiar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Tarea # 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cribe 3 oraciones ORIGINALES con los verbos I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to go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 el PRETERITO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 3 oraciones originales con el verbo SER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(to be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n el PRETERITO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6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00:45:20Z</dcterms:created>
  <dc:creator>Helen Zumaeta</dc:creator>
  <dc:description/>
  <dc:language>en-US</dc:language>
  <cp:lastModifiedBy>Helen Zumaeta</cp:lastModifiedBy>
  <dcterms:modified xsi:type="dcterms:W3CDTF">2012-10-09T18:01:50Z</dcterms:modified>
  <cp:revision>14</cp:revision>
  <dc:subject/>
  <dc:title>Me llamo _______      Clase 7IM La fecha es el 2 de mayo del 2012</dc:title>
</cp:coreProperties>
</file>